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4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png" ContentType="image/png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12193588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717120" y="1162080"/>
            <a:ext cx="5575320" cy="31370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1E8CC-DD94-44A5-965F-EAC2CDAA89C9}" type="slidenum">
              <a:rPr b="0" lang="es-ES_trad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A5D6A-8963-4E5C-BCFB-7FE801D86ECC}" type="slidenum">
              <a:rPr b="0" lang="pt-B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2E564-C526-4075-9580-4561E05689B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5054A-3764-4428-8DB2-3AB8786BDAC4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D9122-95D4-4CE5-B1B3-6A1DFE44060C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A1496-B203-4B49-B181-DEE28E3CEEA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076F6-EBBD-433D-8B12-1470D492EC4A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A6FAB-2411-406C-9BDD-EEA78B0E503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E3B03-7BF5-45DD-B1E4-789C8CC8AE23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1DE5-9826-49D1-9859-1AC970644277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1EAE-EFAE-4333-BC04-C93132C5FA0F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17480" y="1162080"/>
            <a:ext cx="5575320" cy="31370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01280" y="4473720"/>
            <a:ext cx="5607000" cy="366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Espaço Reservado para Número de Slide 3"/>
          <p:cNvSpPr/>
          <p:nvPr/>
        </p:nvSpPr>
        <p:spPr>
          <a:xfrm>
            <a:off x="3970440" y="8829720"/>
            <a:ext cx="303840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38C79-026D-43F4-B753-E0229ECF9526}" type="slidenum">
              <a:rPr b="0" lang="pt-B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FEB2-5ABC-441C-A740-98BD58038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AE82-FA19-406B-A008-B2216CD20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3AA0-01AE-4C47-BFAF-7D0FC6EA2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CC04-1E5C-4C64-8E60-31A728C38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AF46C-B140-4465-9321-FEEB65B50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737DB-106E-475E-9129-D74DFAF51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CFAB-7020-4DA9-8C73-B77C63EFC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C78A0-685A-4554-83C0-AD1436206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9C00-FCC1-496D-B4EE-355D0888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864A-6246-4D8B-8101-5C1B96F16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10EF-8D5B-4100-A041-60596C8BF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0FC0-CC38-4DB0-80A6-3EE24F5D7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em 7" descr=""/>
          <p:cNvPicPr/>
          <p:nvPr/>
        </p:nvPicPr>
        <p:blipFill>
          <a:blip r:embed="rId2"/>
          <a:stretch/>
        </p:blipFill>
        <p:spPr>
          <a:xfrm>
            <a:off x="7732800" y="6045120"/>
            <a:ext cx="4286160" cy="676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595959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F482E-5077-4DD7-A7F9-0521AA71C863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Imagem 2" descr=""/>
          <p:cNvPicPr/>
          <p:nvPr/>
        </p:nvPicPr>
        <p:blipFill>
          <a:blip r:embed="rId1"/>
          <a:stretch/>
        </p:blipFill>
        <p:spPr>
          <a:xfrm>
            <a:off x="0" y="-792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6200" y="230040"/>
            <a:ext cx="8040960" cy="126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RESULTADO DO REGIME GERAL DE PREVIDÊNCIA SOCIAL – RGPS </a:t>
            </a:r>
            <a:endParaRPr b="1" lang="en-US" sz="4000" spc="-1" strike="noStrike">
              <a:solidFill>
                <a:srgbClr val="595959"/>
              </a:solidFill>
              <a:latin typeface="Calibri"/>
            </a:endParaRPr>
          </a:p>
        </p:txBody>
      </p:sp>
      <p:sp>
        <p:nvSpPr>
          <p:cNvPr id="51" name="Retângulo 3"/>
          <p:cNvSpPr/>
          <p:nvPr/>
        </p:nvSpPr>
        <p:spPr>
          <a:xfrm>
            <a:off x="8253360" y="230040"/>
            <a:ext cx="364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000" spc="-1" strike="noStrike">
                <a:solidFill>
                  <a:srgbClr val="ffffff"/>
                </a:solidFill>
                <a:latin typeface="Calibri"/>
              </a:rPr>
              <a:t>2018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198360" y="4549680"/>
            <a:ext cx="3409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SECRETARIA DE PREVIDÊNC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Calibri"/>
              </a:rPr>
              <a:t>Subsecretaria do Regime Geral de Previdência Socia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3"/>
          <p:cNvSpPr/>
          <p:nvPr/>
        </p:nvSpPr>
        <p:spPr>
          <a:xfrm>
            <a:off x="136440" y="195120"/>
            <a:ext cx="116031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7, Novembro e Dezembro de 2018 e Acumulado no ano (2017 e 2018) – Em R$ milhões de dezembro/2018 (INP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ext Box 3"/>
          <p:cNvSpPr/>
          <p:nvPr/>
        </p:nvSpPr>
        <p:spPr>
          <a:xfrm>
            <a:off x="334800" y="638172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Imagem 1" descr=""/>
          <p:cNvPicPr/>
          <p:nvPr/>
        </p:nvPicPr>
        <p:blipFill>
          <a:blip r:embed="rId1"/>
          <a:stretch/>
        </p:blipFill>
        <p:spPr>
          <a:xfrm>
            <a:off x="136440" y="982800"/>
            <a:ext cx="11844360" cy="50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2135160" y="1052640"/>
            <a:ext cx="7993080" cy="51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TENDÊNCIAS ARRECADAÇÃO, DESPESA E RESULTAD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EVOLUÇÃO TEMPO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2"/>
          <p:cNvSpPr/>
          <p:nvPr/>
        </p:nvSpPr>
        <p:spPr>
          <a:xfrm>
            <a:off x="0" y="64580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3"/>
          <p:cNvSpPr/>
          <p:nvPr/>
        </p:nvSpPr>
        <p:spPr>
          <a:xfrm>
            <a:off x="371520" y="154080"/>
            <a:ext cx="9624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cumulado de Janeiro a Dezembro (2003 a 2018)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– Em R$ B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Imagem 1" descr=""/>
          <p:cNvPicPr/>
          <p:nvPr/>
        </p:nvPicPr>
        <p:blipFill>
          <a:blip r:embed="rId1"/>
          <a:stretch/>
        </p:blipFill>
        <p:spPr>
          <a:xfrm>
            <a:off x="0" y="649440"/>
            <a:ext cx="12192120" cy="538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609480" y="212760"/>
            <a:ext cx="96249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8) – Em R$ Bilhões de dezembro/2018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3"/>
          <p:cNvSpPr/>
          <p:nvPr/>
        </p:nvSpPr>
        <p:spPr>
          <a:xfrm>
            <a:off x="19080" y="6453360"/>
            <a:ext cx="3529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Imagem 1" descr=""/>
          <p:cNvPicPr/>
          <p:nvPr/>
        </p:nvPicPr>
        <p:blipFill>
          <a:blip r:embed="rId1"/>
          <a:stretch/>
        </p:blipFill>
        <p:spPr>
          <a:xfrm>
            <a:off x="19080" y="709560"/>
            <a:ext cx="12144240" cy="520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7920" y="643248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PIB 2018 estimado de acordo com a Grade de Parâmetros da SPE/MECON de 01/2019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130320" y="85680"/>
            <a:ext cx="1088064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2003 a 2018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Imagem 1" descr=""/>
          <p:cNvPicPr/>
          <p:nvPr/>
        </p:nvPicPr>
        <p:blipFill>
          <a:blip r:embed="rId1"/>
          <a:stretch/>
        </p:blipFill>
        <p:spPr>
          <a:xfrm>
            <a:off x="0" y="857160"/>
            <a:ext cx="12136320" cy="51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0" y="222120"/>
            <a:ext cx="10964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8) – Em R$ Bilhões de Dezembro/2018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109440" y="6175440"/>
            <a:ext cx="6634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De 2009 a 2015, ocorreu superávit na área urbana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Imagem 1" descr=""/>
          <p:cNvPicPr/>
          <p:nvPr/>
        </p:nvPicPr>
        <p:blipFill>
          <a:blip r:embed="rId1"/>
          <a:stretch/>
        </p:blipFill>
        <p:spPr>
          <a:xfrm>
            <a:off x="0" y="898560"/>
            <a:ext cx="12192120" cy="51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3"/>
          <p:cNvSpPr/>
          <p:nvPr/>
        </p:nvSpPr>
        <p:spPr>
          <a:xfrm>
            <a:off x="27000" y="247680"/>
            <a:ext cx="1195056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2003 a 2018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Text Box 2"/>
          <p:cNvSpPr/>
          <p:nvPr/>
        </p:nvSpPr>
        <p:spPr>
          <a:xfrm>
            <a:off x="27000" y="6048360"/>
            <a:ext cx="7593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–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1. PIB 2018 estimado de acordo com a Grade de Parâmetros da SPE/MECON de 01/2019.   2. De 2009 a 2015, ocorreu superávit na área  urbana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Imagem 1" descr=""/>
          <p:cNvPicPr/>
          <p:nvPr/>
        </p:nvPicPr>
        <p:blipFill>
          <a:blip r:embed="rId1"/>
          <a:stretch/>
        </p:blipFill>
        <p:spPr>
          <a:xfrm>
            <a:off x="27000" y="901800"/>
            <a:ext cx="12045960" cy="49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33480" y="6426360"/>
            <a:ext cx="5562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3"/>
          <p:cNvSpPr/>
          <p:nvPr/>
        </p:nvSpPr>
        <p:spPr>
          <a:xfrm>
            <a:off x="33480" y="88920"/>
            <a:ext cx="11037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cumulado de Janeiro a Dezembro (2003 a 2018) – Em R$ Bilhões de dezembro/2018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Imagem 1" descr=""/>
          <p:cNvPicPr/>
          <p:nvPr/>
        </p:nvPicPr>
        <p:blipFill>
          <a:blip r:embed="rId1"/>
          <a:stretch/>
        </p:blipFill>
        <p:spPr>
          <a:xfrm>
            <a:off x="33480" y="749160"/>
            <a:ext cx="12039480" cy="530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0" y="64562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Nota: PIB 2018 estimado de acordo com a Grade de Parâmetros da SPE/MECON de 01/2019.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 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0" y="139680"/>
            <a:ext cx="12034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em relação ao PIB (Em %) – 2003 a 2018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Imagem 1" descr=""/>
          <p:cNvPicPr/>
          <p:nvPr/>
        </p:nvPicPr>
        <p:blipFill>
          <a:blip r:embed="rId1"/>
          <a:stretch/>
        </p:blipFill>
        <p:spPr>
          <a:xfrm>
            <a:off x="0" y="860400"/>
            <a:ext cx="12144240" cy="49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2"/>
          <p:cNvSpPr/>
          <p:nvPr/>
        </p:nvSpPr>
        <p:spPr>
          <a:xfrm>
            <a:off x="0" y="185760"/>
            <a:ext cx="10848960" cy="6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Média móvel de 12 mese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Janeiro/2003 a dezembro/2018)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m R$ bilhões de dezembro/2018 (INPC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 Box 3"/>
          <p:cNvSpPr/>
          <p:nvPr/>
        </p:nvSpPr>
        <p:spPr>
          <a:xfrm>
            <a:off x="334800" y="645336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Imagem 1" descr=""/>
          <p:cNvPicPr/>
          <p:nvPr/>
        </p:nvPicPr>
        <p:blipFill>
          <a:blip r:embed="rId1"/>
          <a:stretch/>
        </p:blipFill>
        <p:spPr>
          <a:xfrm>
            <a:off x="0" y="762120"/>
            <a:ext cx="12125160" cy="513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2"/>
          <p:cNvSpPr/>
          <p:nvPr/>
        </p:nvSpPr>
        <p:spPr>
          <a:xfrm>
            <a:off x="1523880" y="981000"/>
            <a:ext cx="914400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ESULTADO DO RGP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2018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CaixaDeTexto 1"/>
          <p:cNvSpPr/>
          <p:nvPr/>
        </p:nvSpPr>
        <p:spPr>
          <a:xfrm>
            <a:off x="1623600" y="463680"/>
            <a:ext cx="876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Calibri"/>
              </a:rPr>
              <a:t>Participação do RGPS na despesa primária do governo central – em % do total – 2010 e 2018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Gráfico 4" descr=""/>
          <p:cNvPicPr/>
          <p:nvPr/>
        </p:nvPicPr>
        <p:blipFill>
          <a:blip r:embed="rId1"/>
          <a:stretch/>
        </p:blipFill>
        <p:spPr>
          <a:xfrm>
            <a:off x="2066760" y="828720"/>
            <a:ext cx="8163000" cy="4790880"/>
          </a:xfrm>
          <a:prstGeom prst="rect">
            <a:avLst/>
          </a:prstGeom>
          <a:ln w="0">
            <a:noFill/>
          </a:ln>
        </p:spPr>
      </p:pic>
      <p:sp>
        <p:nvSpPr>
          <p:cNvPr id="101" name="Retângulo 2"/>
          <p:cNvSpPr/>
          <p:nvPr/>
        </p:nvSpPr>
        <p:spPr>
          <a:xfrm>
            <a:off x="1940040" y="5707080"/>
            <a:ext cx="6095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/Elaboração: SPREV/MECON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1523880" y="2060640"/>
            <a:ext cx="9144000" cy="21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 EMITIDO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ESTOQUE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2"/>
          <p:cNvSpPr/>
          <p:nvPr/>
        </p:nvSpPr>
        <p:spPr>
          <a:xfrm>
            <a:off x="47520" y="147600"/>
            <a:ext cx="96249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Emitidos – RGPS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Dezembro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/2017, Novembro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/2018 e Dezembro/2018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47520" y="5987880"/>
            <a:ext cx="8058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sponsabilidade do Ministério da Cidadan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Imagem 1" descr=""/>
          <p:cNvPicPr/>
          <p:nvPr/>
        </p:nvPicPr>
        <p:blipFill>
          <a:blip r:embed="rId1"/>
          <a:stretch/>
        </p:blipFill>
        <p:spPr>
          <a:xfrm>
            <a:off x="0" y="507960"/>
            <a:ext cx="11952360" cy="547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0" y="138240"/>
            <a:ext cx="114998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Emitidos – RGPS –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1998 e 2018 (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ext Box 3"/>
          <p:cNvSpPr/>
          <p:nvPr/>
        </p:nvSpPr>
        <p:spPr>
          <a:xfrm>
            <a:off x="0" y="5996160"/>
            <a:ext cx="7808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sponsabilidade do Ministério da Cidadan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Imagem 1" descr=""/>
          <p:cNvPicPr/>
          <p:nvPr/>
        </p:nvPicPr>
        <p:blipFill>
          <a:blip r:embed="rId1"/>
          <a:stretch/>
        </p:blipFill>
        <p:spPr>
          <a:xfrm>
            <a:off x="47520" y="614520"/>
            <a:ext cx="11881080" cy="5267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4680" y="563400"/>
            <a:ext cx="12047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ntre dezembro de 2008 e dezembro de 2018, a quantidade de benefícios previdenciários e acidentários emitidos pela Previdência aumentou 32,9%, passando de 22,8 milhões para 30,3 milhõ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4680" y="203040"/>
            <a:ext cx="11125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volução da Quantidade de Benefícios Emitidos pela Previdência Social</a:t>
            </a:r>
            <a:r>
              <a:rPr b="1" i="1" lang="pt-BR" sz="1600" spc="-1" strike="noStrike">
                <a:solidFill>
                  <a:srgbClr val="ed7d31"/>
                </a:solidFill>
                <a:latin typeface="Arial"/>
                <a:ea typeface="Times New Roman"/>
              </a:rPr>
              <a:t> </a:t>
            </a:r>
            <a:br>
              <a:rPr sz="16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Em milhões de benefícios - 2008 a 2018 (dezembro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4680" y="6059520"/>
            <a:ext cx="77961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 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Obs.: Os benefícios assistenciais, embora operacionalizados pelo INSS, estão sob a </a:t>
            </a:r>
            <a:r>
              <a:rPr b="0" lang="pt-BR" sz="1000" spc="-1" strike="noStrike">
                <a:solidFill>
                  <a:srgbClr val="000000"/>
                </a:solidFill>
                <a:latin typeface="Arial"/>
              </a:rPr>
              <a:t>responsabilidade do Ministério da Cidadani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Imagem 1" descr=""/>
          <p:cNvPicPr/>
          <p:nvPr/>
        </p:nvPicPr>
        <p:blipFill>
          <a:blip r:embed="rId1"/>
          <a:stretch/>
        </p:blipFill>
        <p:spPr>
          <a:xfrm>
            <a:off x="4680" y="1123920"/>
            <a:ext cx="12139560" cy="483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992160" y="334800"/>
            <a:ext cx="9698040" cy="558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1523880" y="2492280"/>
            <a:ext cx="91076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BENEFÍCIOS CONCEDIDO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(FLUXO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480" y="136440"/>
            <a:ext cx="9545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Concedidos – RGP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/2017, Novembro/2018, Dezembro/2018 e Acumulado no ano (2017 e 2018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0" y="6149880"/>
            <a:ext cx="6622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Imagem 1" descr=""/>
          <p:cNvPicPr/>
          <p:nvPr/>
        </p:nvPicPr>
        <p:blipFill>
          <a:blip r:embed="rId1"/>
          <a:stretch/>
        </p:blipFill>
        <p:spPr>
          <a:xfrm>
            <a:off x="0" y="657360"/>
            <a:ext cx="12185640" cy="54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0" y="157320"/>
            <a:ext cx="1064268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Quantidade de Benefícios Concedidos pela Previdência Social (2010 a 2018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br>
              <a:rPr sz="2400"/>
            </a:b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Acumulado de Janeiro a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  <a:ea typeface="Times New Roman"/>
              </a:rPr>
              <a:t>Dezembro de cada ano ( 2010 a 2018) – </a:t>
            </a:r>
            <a:r>
              <a:rPr b="1" lang="pt-BR" sz="1600" spc="-1" strike="noStrike">
                <a:solidFill>
                  <a:srgbClr val="cc0000"/>
                </a:solidFill>
                <a:latin typeface="Arial"/>
              </a:rPr>
              <a:t>Em milhares de benefício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ext Box 3"/>
          <p:cNvSpPr/>
          <p:nvPr/>
        </p:nvSpPr>
        <p:spPr>
          <a:xfrm>
            <a:off x="87480" y="6099120"/>
            <a:ext cx="6592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s: Anuário Estatístico da Previdência Social - AEPS; Boletim Estatístico da Previdência Social – BEPS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Imagem 1" descr=""/>
          <p:cNvPicPr/>
          <p:nvPr/>
        </p:nvPicPr>
        <p:blipFill>
          <a:blip r:embed="rId1"/>
          <a:stretch/>
        </p:blipFill>
        <p:spPr>
          <a:xfrm>
            <a:off x="0" y="757080"/>
            <a:ext cx="12144240" cy="514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2"/>
          <p:cNvSpPr/>
          <p:nvPr/>
        </p:nvSpPr>
        <p:spPr>
          <a:xfrm>
            <a:off x="15840" y="144360"/>
            <a:ext cx="95360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0" y="642312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Imagem 1" descr=""/>
          <p:cNvPicPr/>
          <p:nvPr/>
        </p:nvPicPr>
        <p:blipFill>
          <a:blip r:embed="rId1"/>
          <a:stretch/>
        </p:blipFill>
        <p:spPr>
          <a:xfrm>
            <a:off x="15840" y="907920"/>
            <a:ext cx="12176280" cy="512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"/>
          <p:cNvSpPr/>
          <p:nvPr/>
        </p:nvSpPr>
        <p:spPr>
          <a:xfrm>
            <a:off x="154080" y="130320"/>
            <a:ext cx="93898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SULTADO DO RGPS – </a:t>
            </a: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Em R$ milhões de Dezembro de 2018 (INPC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0" y="6485040"/>
            <a:ext cx="556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Imagem 1" descr=""/>
          <p:cNvPicPr/>
          <p:nvPr/>
        </p:nvPicPr>
        <p:blipFill>
          <a:blip r:embed="rId1"/>
          <a:stretch/>
        </p:blipFill>
        <p:spPr>
          <a:xfrm>
            <a:off x="0" y="907920"/>
            <a:ext cx="12192120" cy="517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URBANO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3240" y="147600"/>
            <a:ext cx="101995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Dezembro/2017, Novembro e Dezembro de 2018 e Acumulado no ano (2017 e 2018) </a:t>
            </a:r>
            <a:r>
              <a:rPr b="1" lang="pt-BR" sz="1500" spc="-1" strike="noStrike">
                <a:solidFill>
                  <a:srgbClr val="000000"/>
                </a:solidFill>
                <a:latin typeface="Arial"/>
                <a:ea typeface="Times New Roman"/>
              </a:rPr>
              <a:t>– Em R$ milhões nominai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3240" y="6481800"/>
            <a:ext cx="3097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Imagem 1" descr=""/>
          <p:cNvPicPr/>
          <p:nvPr/>
        </p:nvPicPr>
        <p:blipFill>
          <a:blip r:embed="rId1"/>
          <a:stretch/>
        </p:blipFill>
        <p:spPr>
          <a:xfrm>
            <a:off x="119160" y="797040"/>
            <a:ext cx="11709360" cy="52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82440" y="125280"/>
            <a:ext cx="1102212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URB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7, Novembro e Dezembro de 2018 e Acumulado no ano  (2017 e 2018) – Em R$ milhões de dezembro/2018 (INPC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 Box 3"/>
          <p:cNvSpPr/>
          <p:nvPr/>
        </p:nvSpPr>
        <p:spPr>
          <a:xfrm>
            <a:off x="0" y="6450120"/>
            <a:ext cx="7885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Imagem 1" descr=""/>
          <p:cNvPicPr/>
          <p:nvPr/>
        </p:nvPicPr>
        <p:blipFill>
          <a:blip r:embed="rId1"/>
          <a:stretch/>
        </p:blipFill>
        <p:spPr>
          <a:xfrm>
            <a:off x="0" y="903240"/>
            <a:ext cx="11928600" cy="521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2"/>
          <p:cNvSpPr/>
          <p:nvPr/>
        </p:nvSpPr>
        <p:spPr>
          <a:xfrm>
            <a:off x="1560600" y="1052640"/>
            <a:ext cx="914400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ARRECADAÇÃO LÍQUIDA,  DESPESA COM BENEFÍCIOS E RESULTADO PREVIDENCIÁRIO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600" spc="-1" strike="noStrike">
                <a:solidFill>
                  <a:srgbClr val="000000"/>
                </a:solidFill>
                <a:latin typeface="Arial"/>
              </a:rPr>
              <a:t>RUR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3"/>
          <p:cNvSpPr/>
          <p:nvPr/>
        </p:nvSpPr>
        <p:spPr>
          <a:xfrm>
            <a:off x="125280" y="114480"/>
            <a:ext cx="11572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rrecadação Líquida, Despesa com Benefícios e Resultado Previdenciário – </a:t>
            </a:r>
            <a:r>
              <a:rPr b="1" lang="pt-BR" sz="1600" spc="-1" strike="noStrike" u="sng">
                <a:solidFill>
                  <a:srgbClr val="cc0000"/>
                </a:solidFill>
                <a:uFillTx/>
                <a:latin typeface="Arial"/>
                <a:ea typeface="Times New Roman"/>
              </a:rPr>
              <a:t>RUR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Dezembro/2017, Novembro e Dezembro de 2018 e Acumulado no ano (2017 e 2018) – Em R$ milhões nominai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3"/>
          <p:cNvSpPr/>
          <p:nvPr/>
        </p:nvSpPr>
        <p:spPr>
          <a:xfrm>
            <a:off x="316080" y="6381720"/>
            <a:ext cx="363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Fonte: Fluxo de Caixa INSS; Informar/DATAPREV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Elaboração: SPREV/MECON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Imagem 1" descr=""/>
          <p:cNvPicPr/>
          <p:nvPr/>
        </p:nvPicPr>
        <p:blipFill>
          <a:blip r:embed="rId1"/>
          <a:stretch/>
        </p:blipFill>
        <p:spPr>
          <a:xfrm>
            <a:off x="125280" y="976320"/>
            <a:ext cx="1204596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08T13:56:17Z</dcterms:created>
  <dc:creator>Jamil Miranda Ghani</dc:creator>
  <dc:description/>
  <dc:language>en-US</dc:language>
  <cp:lastModifiedBy>Silvana do Socorro Machado Rodrigues - MPS</cp:lastModifiedBy>
  <cp:lastPrinted>2019-02-28T11:12:21Z</cp:lastPrinted>
  <dcterms:modified xsi:type="dcterms:W3CDTF">2019-02-28T11:19:36Z</dcterms:modified>
  <cp:revision>28</cp:revision>
  <dc:subject/>
  <dc:title>Apresentação do PowerPoint</dc:title>
</cp:coreProperties>
</file>